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746-C24F-472E-9BB1-E7A9612F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BA8-0521-4766-85CA-2DB166AF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EF7-7F5A-4ED0-8D16-4F2E9F4D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FE2-CEB8-4BB0-BB14-C382F21D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2983-20FF-45CA-90AB-18E86888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FEB6-CA08-4DAC-8BF2-23006D14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81D9-072A-4646-AF92-C81FD59C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C90B-B477-4057-BAC9-9DE74A10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594A-2D44-4CCE-8D75-31FE9CE8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0314-6A5C-46FA-918E-662F4C1F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6169-0954-43A3-A64D-388F4D98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A36-F850-4619-A41C-3B73D408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228C-F20A-46FF-BD76-A8229B43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257A-C3A7-40B8-8DDD-782BFDAB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747E-072C-4D2E-933D-AF24A809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EB5C-BD56-4B8A-9EB2-12E05125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59C5-67EF-4EAE-BEB3-E6E2FC57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45BDA-BA63-4168-A5F5-CF9215FA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A297-6734-4CF7-A176-FB334A94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0FCEE-1D5F-471F-B316-8E780CE9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A1F62-586C-4FCB-AB33-51BE5248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BE380-6407-4D5F-9549-4AD1996B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80E-3B09-4360-94A9-DBDCC166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E306-E041-438F-82AB-63F7B589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EFFAE-8FB0-4BFF-BDB6-89725AF3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3A105-D8B0-4668-AB5B-C16135DD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3F2AD-E9C3-4BE6-A171-AAAE3CFC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F750F-7F33-4919-8CA5-EB76E8D6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7F0DF-1550-4324-9B11-E5DA9CF4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B2A6-5975-4442-9028-35FB1DBF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8F40-5A53-4C19-B327-BB0A4A62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9E3-C375-4349-9DA8-319178B2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AD4-8F1E-48C5-A924-9ABB03C7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7ED-AEC2-41AE-8D8F-C5E9B9E2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CD8-23AA-45B5-B0B4-0996EF1E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725-EADC-4AFC-B243-461F3CE6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57CE-DBDD-4CE9-B69F-E159991A93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3880" y="-93240"/>
            <a:ext cx="2769480" cy="6949800"/>
            <a:chOff x="-83880" y="-93240"/>
            <a:chExt cx="2769480" cy="6949800"/>
          </a:xfrm>
        </p:grpSpPr>
        <p:sp>
          <p:nvSpPr>
            <p:cNvPr id="42" name="未知"/>
            <p:cNvSpPr/>
            <p:nvPr/>
          </p:nvSpPr>
          <p:spPr>
            <a:xfrm>
              <a:off x="-4680" y="5178600"/>
              <a:ext cx="74808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70560" y="3922200"/>
              <a:ext cx="886320" cy="720000"/>
              <a:chOff x="70560" y="3922200"/>
              <a:chExt cx="886320" cy="720000"/>
            </a:xfrm>
          </p:grpSpPr>
          <p:sp>
            <p:nvSpPr>
              <p:cNvPr id="44" name="未知"/>
              <p:cNvSpPr/>
              <p:nvPr/>
            </p:nvSpPr>
            <p:spPr>
              <a:xfrm flipH="1" rot="14965200">
                <a:off x="119520" y="3943440"/>
                <a:ext cx="228240" cy="263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 flipH="1" rot="14965200">
                <a:off x="279360" y="4311000"/>
                <a:ext cx="389160" cy="220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 flipH="1" rot="14965200">
                <a:off x="630360" y="4150800"/>
                <a:ext cx="40572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未知"/>
            <p:cNvSpPr/>
            <p:nvPr/>
          </p:nvSpPr>
          <p:spPr>
            <a:xfrm>
              <a:off x="145800" y="2755800"/>
              <a:ext cx="112572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1440" y="2601000"/>
              <a:ext cx="2684160" cy="3117600"/>
              <a:chOff x="1440" y="2601000"/>
              <a:chExt cx="2684160" cy="3117600"/>
            </a:xfrm>
          </p:grpSpPr>
          <p:sp>
            <p:nvSpPr>
              <p:cNvPr id="49" name="未知"/>
              <p:cNvSpPr/>
              <p:nvPr/>
            </p:nvSpPr>
            <p:spPr>
              <a:xfrm flipH="1" rot="789600">
                <a:off x="388800" y="2698560"/>
                <a:ext cx="97452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 flipH="1" rot="789600">
                <a:off x="106560" y="2841480"/>
                <a:ext cx="815040" cy="10220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 flipH="1" rot="789600">
                <a:off x="360360" y="3052800"/>
                <a:ext cx="28908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 flipH="1" rot="789600">
                <a:off x="882000" y="3792240"/>
                <a:ext cx="26460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 flipH="1" rot="789600">
                <a:off x="810360" y="3850560"/>
                <a:ext cx="6480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3200" y="4055760"/>
                <a:ext cx="1832400" cy="1662840"/>
                <a:chOff x="853200" y="4055760"/>
                <a:chExt cx="1832400" cy="1662840"/>
              </a:xfrm>
            </p:grpSpPr>
            <p:sp>
              <p:nvSpPr>
                <p:cNvPr id="55" name="未知"/>
                <p:cNvSpPr/>
                <p:nvPr/>
              </p:nvSpPr>
              <p:spPr>
                <a:xfrm flipH="1" rot="7102800">
                  <a:off x="1262880" y="3945960"/>
                  <a:ext cx="475560" cy="12157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未知"/>
                <p:cNvSpPr/>
                <p:nvPr/>
              </p:nvSpPr>
              <p:spPr>
                <a:xfrm flipH="1" rot="7102800">
                  <a:off x="2330640" y="497520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未知"/>
                <p:cNvSpPr/>
                <p:nvPr/>
              </p:nvSpPr>
              <p:spPr>
                <a:xfrm flipH="1" rot="7102800">
                  <a:off x="2501640" y="556884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70160" y="6173640"/>
              <a:ext cx="789120" cy="634680"/>
              <a:chOff x="470160" y="6173640"/>
              <a:chExt cx="789120" cy="634680"/>
            </a:xfrm>
          </p:grpSpPr>
          <p:sp>
            <p:nvSpPr>
              <p:cNvPr id="59" name="未知"/>
              <p:cNvSpPr/>
              <p:nvPr/>
            </p:nvSpPr>
            <p:spPr>
              <a:xfrm rot="6248400">
                <a:off x="1014120" y="6174000"/>
                <a:ext cx="197640" cy="252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rot="6248400">
                <a:off x="762120" y="6513480"/>
                <a:ext cx="337320" cy="21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 rot="6248400">
                <a:off x="388800" y="6410880"/>
                <a:ext cx="35136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20040" y="1775880"/>
              <a:ext cx="784080" cy="693360"/>
              <a:chOff x="320040" y="1775880"/>
              <a:chExt cx="784080" cy="693360"/>
            </a:xfrm>
          </p:grpSpPr>
          <p:sp>
            <p:nvSpPr>
              <p:cNvPr id="63" name="未知"/>
              <p:cNvSpPr/>
              <p:nvPr/>
            </p:nvSpPr>
            <p:spPr>
              <a:xfrm rot="5002800">
                <a:off x="840600" y="1747080"/>
                <a:ext cx="207360" cy="297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 rot="5002800">
                <a:off x="694800" y="2154600"/>
                <a:ext cx="354600" cy="248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 rot="5002800">
                <a:off x="218880" y="2206080"/>
                <a:ext cx="369360" cy="125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5280" y="0"/>
              <a:ext cx="546120" cy="581400"/>
              <a:chOff x="1295280" y="0"/>
              <a:chExt cx="546120" cy="581400"/>
            </a:xfrm>
          </p:grpSpPr>
          <p:sp>
            <p:nvSpPr>
              <p:cNvPr id="67" name="未知"/>
              <p:cNvSpPr/>
              <p:nvPr/>
            </p:nvSpPr>
            <p:spPr>
              <a:xfrm>
                <a:off x="1295280" y="0"/>
                <a:ext cx="17352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1544760" y="103320"/>
                <a:ext cx="296640" cy="18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1485360" y="489240"/>
                <a:ext cx="30888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未知"/>
            <p:cNvSpPr/>
            <p:nvPr/>
          </p:nvSpPr>
          <p:spPr>
            <a:xfrm>
              <a:off x="141120" y="149400"/>
              <a:ext cx="110808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 rot="828600">
              <a:off x="386280" y="5403600"/>
              <a:ext cx="20916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rot="828600">
              <a:off x="424800" y="5702040"/>
              <a:ext cx="10440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20520" y="6524640"/>
              <a:ext cx="18684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2880" y="6299280"/>
              <a:ext cx="20592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880" y="6269040"/>
              <a:ext cx="7416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880" y="5141880"/>
              <a:ext cx="78804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 rot="1584000">
              <a:off x="34200" y="650880"/>
              <a:ext cx="54540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 rot="1584000">
              <a:off x="386280" y="1200240"/>
              <a:ext cx="26496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 rot="1584000">
              <a:off x="913320" y="453960"/>
              <a:ext cx="23292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 rot="1584000">
              <a:off x="376920" y="1144440"/>
              <a:ext cx="9792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 rot="1584000">
              <a:off x="930600" y="739440"/>
              <a:ext cx="11376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2880" y="1406520"/>
              <a:ext cx="57096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 rot="1584000">
              <a:off x="91440" y="133200"/>
              <a:ext cx="12744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3476-BDFB-42D3-AF6F-2769427D370B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9720" y="61560"/>
              <a:ext cx="3621240" cy="6130440"/>
              <a:chOff x="5409720" y="61560"/>
              <a:chExt cx="3621240" cy="6130440"/>
            </a:xfrm>
          </p:grpSpPr>
          <p:sp>
            <p:nvSpPr>
              <p:cNvPr id="127" name="未知"/>
              <p:cNvSpPr/>
              <p:nvPr/>
            </p:nvSpPr>
            <p:spPr>
              <a:xfrm flipV="1" rot="11970000">
                <a:off x="6582600" y="3470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V="1" rot="11970000">
                <a:off x="7421760" y="19594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V="1" rot="11970000">
                <a:off x="6826680" y="259092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 flipV="1" rot="11970000">
                <a:off x="7251840" y="67356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flipV="1" rot="11970000">
                <a:off x="7155720" y="264456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flipV="1" rot="11970000">
                <a:off x="7141320" y="124128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flipV="1" rot="11970000">
                <a:off x="5940000" y="2930040"/>
                <a:ext cx="523440" cy="32680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未知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37840" y="1035360"/>
              <a:ext cx="1015920" cy="1260360"/>
              <a:chOff x="4137840" y="1035360"/>
              <a:chExt cx="1015920" cy="1260360"/>
            </a:xfrm>
          </p:grpSpPr>
          <p:sp>
            <p:nvSpPr>
              <p:cNvPr id="141" name="未知"/>
              <p:cNvSpPr/>
              <p:nvPr/>
            </p:nvSpPr>
            <p:spPr>
              <a:xfrm rot="3220200">
                <a:off x="4552200" y="1073520"/>
                <a:ext cx="28692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3220200">
                <a:off x="4636440" y="1605600"/>
                <a:ext cx="489600" cy="316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rot="3220200">
                <a:off x="4098240" y="1962720"/>
                <a:ext cx="51012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36160" y="293040"/>
              <a:ext cx="891360" cy="829440"/>
              <a:chOff x="5636160" y="293040"/>
              <a:chExt cx="891360" cy="829440"/>
            </a:xfrm>
          </p:grpSpPr>
          <p:sp>
            <p:nvSpPr>
              <p:cNvPr id="145" name="未知"/>
              <p:cNvSpPr/>
              <p:nvPr/>
            </p:nvSpPr>
            <p:spPr>
              <a:xfrm rot="14908200">
                <a:off x="5747760" y="791280"/>
                <a:ext cx="179280" cy="36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 rot="14908200">
                <a:off x="5698080" y="470160"/>
                <a:ext cx="305280" cy="302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 rot="14908200">
                <a:off x="623808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0120"/>
              <a:ext cx="1058040" cy="830160"/>
              <a:chOff x="954000" y="5280120"/>
              <a:chExt cx="1058040" cy="830160"/>
            </a:xfrm>
          </p:grpSpPr>
          <p:sp>
            <p:nvSpPr>
              <p:cNvPr id="149" name="未知"/>
              <p:cNvSpPr/>
              <p:nvPr/>
            </p:nvSpPr>
            <p:spPr>
              <a:xfrm rot="8524800">
                <a:off x="1694160" y="5544720"/>
                <a:ext cx="252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 rot="8524800">
                <a:off x="1177200" y="5755680"/>
                <a:ext cx="43020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 rot="8524800">
                <a:off x="945360" y="5404320"/>
                <a:ext cx="44820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7480" y="429120"/>
              <a:ext cx="1689480" cy="1145880"/>
              <a:chOff x="357480" y="429120"/>
              <a:chExt cx="1689480" cy="1145880"/>
            </a:xfrm>
          </p:grpSpPr>
          <p:sp>
            <p:nvSpPr>
              <p:cNvPr id="153" name="未知"/>
              <p:cNvSpPr/>
              <p:nvPr/>
            </p:nvSpPr>
            <p:spPr>
              <a:xfrm flipH="1" rot="4107000">
                <a:off x="1555560" y="1046160"/>
                <a:ext cx="35676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 flipH="1" rot="4107000">
                <a:off x="1002960" y="572040"/>
                <a:ext cx="609120" cy="443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 flipH="1" rot="4107000">
                <a:off x="260280" y="1087200"/>
                <a:ext cx="63504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5120" y="3699720"/>
              <a:ext cx="1155960" cy="1607760"/>
              <a:chOff x="7395120" y="3699720"/>
              <a:chExt cx="1155960" cy="1607760"/>
            </a:xfrm>
          </p:grpSpPr>
          <p:sp>
            <p:nvSpPr>
              <p:cNvPr id="157" name="未知"/>
              <p:cNvSpPr/>
              <p:nvPr/>
            </p:nvSpPr>
            <p:spPr>
              <a:xfrm flipH="1" rot="10015800">
                <a:off x="7449840" y="4743360"/>
                <a:ext cx="35676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 flipH="1" rot="10015800">
                <a:off x="7899840" y="4440960"/>
                <a:ext cx="609120" cy="442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 flipH="1" rot="10015800">
                <a:off x="7592760" y="3768480"/>
                <a:ext cx="63468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未知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CE44-9940-4C77-819F-1EFE961A72B2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684360" y="3284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华文行楷"/>
              </a:rPr>
              <a:t>13.4</a:t>
            </a: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华文行楷"/>
              </a:rPr>
              <a:t>作三角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5451480" y="5877000"/>
            <a:ext cx="1568520" cy="366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welcome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23288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2268360" y="4724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（尺规作图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0" y="263520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利用尺规不能唯一作出的三角形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三边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两边及夹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两角及夹边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两边及其中一边的对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144360" y="4651200"/>
            <a:ext cx="899964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利用尺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唯一作出的直角三角形是    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斜边及一条直角边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两条直角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两锐角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一锐角及一直角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0" y="0"/>
            <a:ext cx="8893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一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以下列线段为边能作三角形的是    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、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6516720" y="26337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774216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6516720" y="692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684360" y="692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某人不小心把一块三角形的玻璃打碎成三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现在要到玻璃店去配一块完全一样的玻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那么他最少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684360" y="2611440"/>
            <a:ext cx="705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带①去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带②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带③去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带①和②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2340000" y="3716280"/>
            <a:ext cx="34560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2843280" y="0"/>
            <a:ext cx="3222360" cy="993240"/>
            <a:chOff x="2843280" y="0"/>
            <a:chExt cx="3222360" cy="993240"/>
          </a:xfrm>
        </p:grpSpPr>
        <p:sp>
          <p:nvSpPr>
            <p:cNvPr id="376" name="Oval 3"/>
            <p:cNvSpPr/>
            <p:nvPr/>
          </p:nvSpPr>
          <p:spPr>
            <a:xfrm>
              <a:off x="2843280" y="0"/>
              <a:ext cx="3222360" cy="99324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4"/>
            <p:cNvSpPr/>
            <p:nvPr/>
          </p:nvSpPr>
          <p:spPr>
            <a:xfrm>
              <a:off x="3258000" y="165960"/>
              <a:ext cx="2287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omic Sans MS"/>
                  <a:ea typeface="华文行楷"/>
                </a:rPr>
                <a:t>拓展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"/>
          <p:cNvSpPr/>
          <p:nvPr/>
        </p:nvSpPr>
        <p:spPr>
          <a:xfrm>
            <a:off x="539640" y="1523880"/>
            <a:ext cx="76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如图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在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ABC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中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,BC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＝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厘米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,AC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＝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厘米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, AB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＝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．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厘米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,∠B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＝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36°,∠C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＝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44°,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请你选择适当数据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画与△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ABC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全等的三角形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(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用三种方法画图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不写做法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但要从所画的三角形中标出用到的数据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"/>
          <p:cNvGrpSpPr/>
          <p:nvPr/>
        </p:nvGrpSpPr>
        <p:grpSpPr>
          <a:xfrm>
            <a:off x="2914560" y="4149720"/>
            <a:ext cx="4681440" cy="2323440"/>
            <a:chOff x="2914560" y="4149720"/>
            <a:chExt cx="4681440" cy="2323440"/>
          </a:xfrm>
        </p:grpSpPr>
        <p:sp>
          <p:nvSpPr>
            <p:cNvPr id="380" name="Text Box 7"/>
            <p:cNvSpPr/>
            <p:nvPr/>
          </p:nvSpPr>
          <p:spPr>
            <a:xfrm>
              <a:off x="6544800" y="5701680"/>
              <a:ext cx="105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8"/>
            <p:cNvSpPr/>
            <p:nvPr/>
          </p:nvSpPr>
          <p:spPr>
            <a:xfrm>
              <a:off x="3369600" y="6078600"/>
              <a:ext cx="3153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>
              <a:off x="5472000" y="4720320"/>
              <a:ext cx="1051560" cy="135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0"/>
            <p:cNvSpPr/>
            <p:nvPr/>
          </p:nvSpPr>
          <p:spPr>
            <a:xfrm flipV="1">
              <a:off x="3369600" y="4720320"/>
              <a:ext cx="2102400" cy="135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1"/>
            <p:cNvSpPr/>
            <p:nvPr/>
          </p:nvSpPr>
          <p:spPr>
            <a:xfrm>
              <a:off x="5114160" y="4149720"/>
              <a:ext cx="105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2"/>
            <p:cNvSpPr/>
            <p:nvPr/>
          </p:nvSpPr>
          <p:spPr>
            <a:xfrm>
              <a:off x="2914560" y="5689080"/>
              <a:ext cx="105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 rot="19972200">
              <a:off x="3498120" y="483588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．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厘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4"/>
            <p:cNvSpPr/>
            <p:nvPr/>
          </p:nvSpPr>
          <p:spPr>
            <a:xfrm>
              <a:off x="4304880" y="6074280"/>
              <a:ext cx="180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厘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5"/>
            <p:cNvSpPr/>
            <p:nvPr/>
          </p:nvSpPr>
          <p:spPr>
            <a:xfrm rot="3262800">
              <a:off x="5486400" y="5045400"/>
              <a:ext cx="169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厘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685800" y="3429000"/>
            <a:ext cx="784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拿破仑的题目：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只用圆规把一个圆四等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685800" y="1143000"/>
            <a:ext cx="8134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曾经的世界难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尺规作图，把一个角三等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50920" y="266544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6666"/>
                </a:solidFill>
                <a:latin typeface="Comic Sans MS"/>
              </a:rPr>
              <a:t>据说，为了显示谁的逻辑能力更强，古希腊人限制了几何作图的工具，结果一些普通的画图题让数学家思索了</a:t>
            </a:r>
            <a:r>
              <a:rPr b="1" lang="zh-CN" sz="4000" spc="-1" strike="noStrike">
                <a:solidFill>
                  <a:srgbClr val="006666"/>
                </a:solidFill>
                <a:latin typeface="Comic Sans MS"/>
              </a:rPr>
              <a:t>2000</a:t>
            </a:r>
            <a:r>
              <a:rPr b="1" lang="zh-CN" sz="4000" spc="-1" strike="noStrike">
                <a:solidFill>
                  <a:srgbClr val="006666"/>
                </a:solidFill>
                <a:latin typeface="Comic Sans MS"/>
              </a:rPr>
              <a:t>多年。尺规作图特有的魅力，使无数人沉湎其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24000" y="1125360"/>
            <a:ext cx="87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6666"/>
                </a:solidFill>
                <a:latin typeface="Comic Sans MS"/>
              </a:rPr>
              <a:t>在几何作图中，我们把没有刻度的直尺和圆规作图，简称尺规作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95280" y="26028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Comic Sans MS"/>
              </a:rPr>
              <a:t>尺规作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39640" y="40464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尺规作图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39640" y="1628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已知角的角平分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908000" y="515772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 flipV="1">
            <a:off x="1908000" y="2781000"/>
            <a:ext cx="172728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332000" y="53006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5219640" y="5373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627280" y="2565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684360" y="6922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已知线段的中垂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"/>
          <p:cNvSpPr/>
          <p:nvPr/>
        </p:nvSpPr>
        <p:spPr>
          <a:xfrm>
            <a:off x="1908000" y="3213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474920" y="31478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4716360" y="32194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24000" y="414972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389480" y="4948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能用直尺和圆规找出一条线段的中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3704040" y="5740560"/>
            <a:ext cx="8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能用直尺和圆规画出一个直角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71640" y="191628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95280" y="509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3.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已知：∠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AOB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，求作∠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A′O′B′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，使∠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A′O′B′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＝∠</a:t>
            </a:r>
            <a:r>
              <a:rPr b="1" lang="zh-CN" sz="3600" spc="-1" strike="noStrike">
                <a:solidFill>
                  <a:srgbClr val="009999"/>
                </a:solidFill>
                <a:latin typeface="Comic Sans MS"/>
              </a:rPr>
              <a:t>A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3780000" y="1773360"/>
            <a:ext cx="3480840" cy="1956600"/>
            <a:chOff x="3780000" y="1773360"/>
            <a:chExt cx="3480840" cy="1956600"/>
          </a:xfrm>
        </p:grpSpPr>
        <p:sp>
          <p:nvSpPr>
            <p:cNvPr id="232" name="Line 5"/>
            <p:cNvSpPr/>
            <p:nvPr/>
          </p:nvSpPr>
          <p:spPr>
            <a:xfrm>
              <a:off x="4211280" y="3214800"/>
              <a:ext cx="26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6"/>
            <p:cNvSpPr/>
            <p:nvPr/>
          </p:nvSpPr>
          <p:spPr>
            <a:xfrm flipV="1">
              <a:off x="4211280" y="2062080"/>
              <a:ext cx="20890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7"/>
            <p:cNvSpPr/>
            <p:nvPr/>
          </p:nvSpPr>
          <p:spPr>
            <a:xfrm>
              <a:off x="3780000" y="299880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8"/>
            <p:cNvSpPr/>
            <p:nvPr/>
          </p:nvSpPr>
          <p:spPr>
            <a:xfrm>
              <a:off x="6540480" y="327024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9"/>
            <p:cNvSpPr/>
            <p:nvPr/>
          </p:nvSpPr>
          <p:spPr>
            <a:xfrm>
              <a:off x="5940360" y="177336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10"/>
          <p:cNvSpPr/>
          <p:nvPr/>
        </p:nvSpPr>
        <p:spPr>
          <a:xfrm>
            <a:off x="360360" y="47721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519120" y="348624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做射线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O′B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34920" y="4051440"/>
            <a:ext cx="106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以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为圆心，任意长为半径画弧，交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点，交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OB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27000" y="4581360"/>
            <a:ext cx="89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以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O′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为圆心，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长为半径画弧，交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O′B′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C′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点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0" y="5203800"/>
            <a:ext cx="89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以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C′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为圆心，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DC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长为半径画弧，交前弧于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D′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点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5"/>
          <p:cNvGrpSpPr/>
          <p:nvPr/>
        </p:nvGrpSpPr>
        <p:grpSpPr>
          <a:xfrm>
            <a:off x="-247680" y="5313240"/>
            <a:ext cx="9140760" cy="1428840"/>
            <a:chOff x="-247680" y="5313240"/>
            <a:chExt cx="9140760" cy="1428840"/>
          </a:xfrm>
        </p:grpSpPr>
        <p:sp>
          <p:nvSpPr>
            <p:cNvPr id="243" name="Rectangle 16"/>
            <p:cNvSpPr/>
            <p:nvPr/>
          </p:nvSpPr>
          <p:spPr>
            <a:xfrm>
              <a:off x="-247680" y="5313240"/>
              <a:ext cx="91407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>
              <a:off x="1560960" y="5527800"/>
              <a:ext cx="31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2880" y="5661360"/>
              <a:ext cx="86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）过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D′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做射线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</a:rPr>
                <a:t>O′A′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Rectangle 19"/>
          <p:cNvSpPr/>
          <p:nvPr/>
        </p:nvSpPr>
        <p:spPr>
          <a:xfrm>
            <a:off x="-249120" y="6524640"/>
            <a:ext cx="91407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93560" y="6165720"/>
            <a:ext cx="86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则∠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A′O′B′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为所求作的角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250920" y="2278080"/>
            <a:ext cx="2520360" cy="934920"/>
            <a:chOff x="250920" y="2278080"/>
            <a:chExt cx="2520360" cy="934920"/>
          </a:xfrm>
        </p:grpSpPr>
        <p:sp>
          <p:nvSpPr>
            <p:cNvPr id="249" name="Cloud"/>
            <p:cNvSpPr/>
            <p:nvPr/>
          </p:nvSpPr>
          <p:spPr>
            <a:xfrm>
              <a:off x="250920" y="2278080"/>
              <a:ext cx="2099880" cy="934920"/>
            </a:xfrm>
            <a:prstGeom prst="pie">
              <a:avLst/>
            </a:prstGeom>
            <a:solidFill>
              <a:srgbClr val="ffccff"/>
            </a:solidFill>
            <a:ln w="57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3"/>
            <p:cNvSpPr/>
            <p:nvPr/>
          </p:nvSpPr>
          <p:spPr>
            <a:xfrm>
              <a:off x="437040" y="2349360"/>
              <a:ext cx="233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omic Sans MS"/>
                  <a:ea typeface="华文行楷"/>
                </a:rPr>
                <a:t>作法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24000" y="549360"/>
            <a:ext cx="79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0" lang="el-GR" sz="3600" spc="-1" strike="noStrike">
                <a:solidFill>
                  <a:srgbClr val="000000"/>
                </a:solidFill>
                <a:latin typeface="宋体"/>
              </a:rPr>
              <a:t>α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l-GR" sz="3600" spc="-1" strike="noStrike">
                <a:solidFill>
                  <a:srgbClr val="000000"/>
                </a:solidFill>
                <a:latin typeface="宋体"/>
              </a:rPr>
              <a:t>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求作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BC = ∠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+ ∠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"/>
          <p:cNvSpPr/>
          <p:nvPr/>
        </p:nvSpPr>
        <p:spPr>
          <a:xfrm>
            <a:off x="1332000" y="501336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4"/>
          <p:cNvSpPr/>
          <p:nvPr/>
        </p:nvSpPr>
        <p:spPr>
          <a:xfrm flipV="1">
            <a:off x="1332000" y="2923920"/>
            <a:ext cx="71892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"/>
          <p:cNvSpPr/>
          <p:nvPr/>
        </p:nvSpPr>
        <p:spPr>
          <a:xfrm>
            <a:off x="5219640" y="4941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5219640" y="3429000"/>
            <a:ext cx="187344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476360" y="43718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宋体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5508720" y="4365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宋体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未知"/>
          <p:cNvSpPr/>
          <p:nvPr/>
        </p:nvSpPr>
        <p:spPr>
          <a:xfrm>
            <a:off x="1442880" y="4734000"/>
            <a:ext cx="243000" cy="244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未知"/>
          <p:cNvSpPr/>
          <p:nvPr/>
        </p:nvSpPr>
        <p:spPr>
          <a:xfrm>
            <a:off x="5527800" y="4714920"/>
            <a:ext cx="101520" cy="22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-264240" y="243720"/>
            <a:ext cx="3475080" cy="3487320"/>
            <a:chOff x="-264240" y="243720"/>
            <a:chExt cx="3475080" cy="3487320"/>
          </a:xfrm>
        </p:grpSpPr>
        <p:sp>
          <p:nvSpPr>
            <p:cNvPr id="261" name="AutoShape 3"/>
            <p:cNvSpPr/>
            <p:nvPr/>
          </p:nvSpPr>
          <p:spPr>
            <a:xfrm rot="30000">
              <a:off x="-249120" y="258480"/>
              <a:ext cx="3444840" cy="3457440"/>
            </a:xfrm>
            <a:prstGeom prst="pie">
              <a:avLst/>
            </a:prstGeom>
            <a:solidFill>
              <a:srgbClr val="2abc12"/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WordArt 4" descr=""/>
            <p:cNvPicPr/>
            <p:nvPr/>
          </p:nvPicPr>
          <p:blipFill>
            <a:blip r:embed="rId1"/>
            <a:stretch/>
          </p:blipFill>
          <p:spPr>
            <a:xfrm>
              <a:off x="-182520" y="500040"/>
              <a:ext cx="3387600" cy="312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Text Box 5"/>
          <p:cNvSpPr/>
          <p:nvPr/>
        </p:nvSpPr>
        <p:spPr>
          <a:xfrm>
            <a:off x="2771640" y="33984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已知三角形的三边求作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3132000" y="1197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线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,b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7"/>
          <p:cNvGrpSpPr/>
          <p:nvPr/>
        </p:nvGrpSpPr>
        <p:grpSpPr>
          <a:xfrm>
            <a:off x="5867280" y="907920"/>
            <a:ext cx="2448000" cy="969480"/>
            <a:chOff x="5867280" y="907920"/>
            <a:chExt cx="2448000" cy="969480"/>
          </a:xfrm>
        </p:grpSpPr>
        <p:sp>
          <p:nvSpPr>
            <p:cNvPr id="266" name="Line 8"/>
            <p:cNvSpPr/>
            <p:nvPr/>
          </p:nvSpPr>
          <p:spPr>
            <a:xfrm>
              <a:off x="5867280" y="1268280"/>
              <a:ext cx="16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9"/>
            <p:cNvSpPr/>
            <p:nvPr/>
          </p:nvSpPr>
          <p:spPr>
            <a:xfrm>
              <a:off x="5867280" y="1484280"/>
              <a:ext cx="244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0"/>
            <p:cNvSpPr/>
            <p:nvPr/>
          </p:nvSpPr>
          <p:spPr>
            <a:xfrm>
              <a:off x="5938560" y="1771560"/>
              <a:ext cx="216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1"/>
            <p:cNvSpPr/>
            <p:nvPr/>
          </p:nvSpPr>
          <p:spPr>
            <a:xfrm>
              <a:off x="6227640" y="907920"/>
              <a:ext cx="790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2"/>
            <p:cNvSpPr/>
            <p:nvPr/>
          </p:nvSpPr>
          <p:spPr>
            <a:xfrm>
              <a:off x="6548400" y="9111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3"/>
            <p:cNvSpPr/>
            <p:nvPr/>
          </p:nvSpPr>
          <p:spPr>
            <a:xfrm>
              <a:off x="7548480" y="10141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4"/>
            <p:cNvSpPr/>
            <p:nvPr/>
          </p:nvSpPr>
          <p:spPr>
            <a:xfrm>
              <a:off x="7522920" y="11239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5"/>
            <p:cNvSpPr/>
            <p:nvPr/>
          </p:nvSpPr>
          <p:spPr>
            <a:xfrm>
              <a:off x="7454880" y="14176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5867280" y="1268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 flipV="1">
              <a:off x="5867280" y="1194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 flipV="1">
              <a:off x="5867280" y="1410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9"/>
            <p:cNvSpPr/>
            <p:nvPr/>
          </p:nvSpPr>
          <p:spPr>
            <a:xfrm flipV="1">
              <a:off x="5938560" y="16995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0"/>
            <p:cNvSpPr/>
            <p:nvPr/>
          </p:nvSpPr>
          <p:spPr>
            <a:xfrm flipV="1">
              <a:off x="8315280" y="1410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1"/>
            <p:cNvSpPr/>
            <p:nvPr/>
          </p:nvSpPr>
          <p:spPr>
            <a:xfrm flipV="1">
              <a:off x="8099280" y="169956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2"/>
            <p:cNvSpPr/>
            <p:nvPr/>
          </p:nvSpPr>
          <p:spPr>
            <a:xfrm flipV="1">
              <a:off x="7522920" y="1194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23"/>
          <p:cNvSpPr/>
          <p:nvPr/>
        </p:nvSpPr>
        <p:spPr>
          <a:xfrm>
            <a:off x="2411280" y="191628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△ABC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,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,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24"/>
          <p:cNvGrpSpPr/>
          <p:nvPr/>
        </p:nvGrpSpPr>
        <p:grpSpPr>
          <a:xfrm>
            <a:off x="0" y="2565360"/>
            <a:ext cx="1657440" cy="1007640"/>
            <a:chOff x="0" y="2565360"/>
            <a:chExt cx="1657440" cy="1007640"/>
          </a:xfrm>
        </p:grpSpPr>
        <p:sp>
          <p:nvSpPr>
            <p:cNvPr id="283" name="PubOvalCallout"/>
            <p:cNvSpPr/>
            <p:nvPr/>
          </p:nvSpPr>
          <p:spPr>
            <a:xfrm flipH="1">
              <a:off x="0" y="2565360"/>
              <a:ext cx="1657440" cy="1007640"/>
            </a:xfrm>
            <a:prstGeom prst="pie">
              <a:avLst/>
            </a:prstGeom>
            <a:solidFill>
              <a:srgbClr val="2abc12"/>
            </a:solidFill>
            <a:ln w="57240">
              <a:solidFill>
                <a:srgbClr val="ff0000"/>
              </a:solidFill>
              <a:prstDash val="sysDot"/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6"/>
            <p:cNvSpPr/>
            <p:nvPr/>
          </p:nvSpPr>
          <p:spPr>
            <a:xfrm flipH="1">
              <a:off x="288720" y="2565360"/>
              <a:ext cx="115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作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27"/>
          <p:cNvSpPr/>
          <p:nvPr/>
        </p:nvSpPr>
        <p:spPr>
          <a:xfrm>
            <a:off x="1690560" y="2637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线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"/>
          <p:cNvSpPr/>
          <p:nvPr/>
        </p:nvSpPr>
        <p:spPr>
          <a:xfrm>
            <a:off x="1619280" y="3284640"/>
            <a:ext cx="47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圆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半径画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1619280" y="3933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圆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半径画弧两弧相交于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0"/>
          <p:cNvSpPr/>
          <p:nvPr/>
        </p:nvSpPr>
        <p:spPr>
          <a:xfrm>
            <a:off x="1692360" y="456552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,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1332000" y="5445000"/>
            <a:ext cx="51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则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所求作的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32"/>
          <p:cNvGrpSpPr/>
          <p:nvPr/>
        </p:nvGrpSpPr>
        <p:grpSpPr>
          <a:xfrm>
            <a:off x="3492360" y="1197000"/>
            <a:ext cx="5329440" cy="1584360"/>
            <a:chOff x="3492360" y="1197000"/>
            <a:chExt cx="5329440" cy="1584360"/>
          </a:xfrm>
        </p:grpSpPr>
        <p:sp>
          <p:nvSpPr>
            <p:cNvPr id="291" name="Cloud"/>
            <p:cNvSpPr/>
            <p:nvPr/>
          </p:nvSpPr>
          <p:spPr>
            <a:xfrm>
              <a:off x="3492360" y="1197000"/>
              <a:ext cx="5329440" cy="1584360"/>
            </a:xfrm>
            <a:prstGeom prst="pie">
              <a:avLst/>
            </a:prstGeom>
            <a:solidFill>
              <a:srgbClr val="ffccff"/>
            </a:solidFill>
            <a:ln w="57240">
              <a:solidFill>
                <a:srgbClr val="99cc00"/>
              </a:solidFill>
              <a:prstDash val="dash"/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4"/>
            <p:cNvSpPr/>
            <p:nvPr/>
          </p:nvSpPr>
          <p:spPr>
            <a:xfrm>
              <a:off x="4081680" y="1490400"/>
              <a:ext cx="4416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SSS: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三边对应相等的两个三角形全等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3059280" y="0"/>
            <a:ext cx="55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行楷"/>
              </a:rPr>
              <a:t>已知三角形的两边及其夹角，求作三角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0" y="1197000"/>
            <a:ext cx="867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已知：线段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a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，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， ∠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α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，求作：△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，使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BC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＝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a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AB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＝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， ∠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ABC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＝∠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"/>
          <p:cNvGrpSpPr/>
          <p:nvPr/>
        </p:nvGrpSpPr>
        <p:grpSpPr>
          <a:xfrm>
            <a:off x="468000" y="2133720"/>
            <a:ext cx="1656000" cy="419040"/>
            <a:chOff x="468000" y="2133720"/>
            <a:chExt cx="1656000" cy="419040"/>
          </a:xfrm>
        </p:grpSpPr>
        <p:sp>
          <p:nvSpPr>
            <p:cNvPr id="296" name="Line 5"/>
            <p:cNvSpPr/>
            <p:nvPr/>
          </p:nvSpPr>
          <p:spPr>
            <a:xfrm>
              <a:off x="468360" y="255132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6"/>
            <p:cNvSpPr/>
            <p:nvPr/>
          </p:nvSpPr>
          <p:spPr>
            <a:xfrm flipH="1">
              <a:off x="468000" y="2478240"/>
              <a:ext cx="19080" cy="5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7"/>
            <p:cNvSpPr/>
            <p:nvPr/>
          </p:nvSpPr>
          <p:spPr>
            <a:xfrm flipH="1">
              <a:off x="2090520" y="2497320"/>
              <a:ext cx="19080" cy="5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8"/>
            <p:cNvSpPr/>
            <p:nvPr/>
          </p:nvSpPr>
          <p:spPr>
            <a:xfrm>
              <a:off x="1042920" y="213372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9"/>
          <p:cNvGrpSpPr/>
          <p:nvPr/>
        </p:nvGrpSpPr>
        <p:grpSpPr>
          <a:xfrm>
            <a:off x="2484000" y="2133720"/>
            <a:ext cx="1025640" cy="453960"/>
            <a:chOff x="2484000" y="2133720"/>
            <a:chExt cx="1025640" cy="453960"/>
          </a:xfrm>
        </p:grpSpPr>
        <p:sp>
          <p:nvSpPr>
            <p:cNvPr id="301" name="Line 10"/>
            <p:cNvSpPr/>
            <p:nvPr/>
          </p:nvSpPr>
          <p:spPr>
            <a:xfrm>
              <a:off x="2500200" y="256716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1"/>
            <p:cNvSpPr/>
            <p:nvPr/>
          </p:nvSpPr>
          <p:spPr>
            <a:xfrm flipH="1">
              <a:off x="2484000" y="2530440"/>
              <a:ext cx="19080" cy="5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2"/>
            <p:cNvSpPr/>
            <p:nvPr/>
          </p:nvSpPr>
          <p:spPr>
            <a:xfrm flipH="1">
              <a:off x="3490560" y="2532240"/>
              <a:ext cx="19080" cy="5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3"/>
            <p:cNvSpPr/>
            <p:nvPr/>
          </p:nvSpPr>
          <p:spPr>
            <a:xfrm>
              <a:off x="2787480" y="213372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4"/>
          <p:cNvGrpSpPr/>
          <p:nvPr/>
        </p:nvGrpSpPr>
        <p:grpSpPr>
          <a:xfrm>
            <a:off x="4140360" y="1557360"/>
            <a:ext cx="2519280" cy="1075680"/>
            <a:chOff x="4140360" y="1557360"/>
            <a:chExt cx="2519280" cy="1075680"/>
          </a:xfrm>
        </p:grpSpPr>
        <p:sp>
          <p:nvSpPr>
            <p:cNvPr id="306" name="Line 15"/>
            <p:cNvSpPr/>
            <p:nvPr/>
          </p:nvSpPr>
          <p:spPr>
            <a:xfrm>
              <a:off x="4140360" y="2565360"/>
              <a:ext cx="25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6"/>
            <p:cNvSpPr/>
            <p:nvPr/>
          </p:nvSpPr>
          <p:spPr>
            <a:xfrm flipV="1">
              <a:off x="4140360" y="1557360"/>
              <a:ext cx="194328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rc 17"/>
            <p:cNvSpPr/>
            <p:nvPr/>
          </p:nvSpPr>
          <p:spPr>
            <a:xfrm flipH="1" rot="7190400">
              <a:off x="4353480" y="2487960"/>
              <a:ext cx="71280" cy="734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8"/>
            <p:cNvSpPr/>
            <p:nvPr/>
          </p:nvSpPr>
          <p:spPr>
            <a:xfrm>
              <a:off x="4553640" y="21733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Line 19"/>
          <p:cNvSpPr/>
          <p:nvPr/>
        </p:nvSpPr>
        <p:spPr>
          <a:xfrm>
            <a:off x="900000" y="495936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0"/>
          <p:cNvSpPr/>
          <p:nvPr/>
        </p:nvSpPr>
        <p:spPr>
          <a:xfrm>
            <a:off x="539640" y="45464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1"/>
          <p:cNvSpPr/>
          <p:nvPr/>
        </p:nvSpPr>
        <p:spPr>
          <a:xfrm>
            <a:off x="4140360" y="49258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rc 22"/>
          <p:cNvSpPr/>
          <p:nvPr/>
        </p:nvSpPr>
        <p:spPr>
          <a:xfrm rot="1678800">
            <a:off x="4284360" y="1699920"/>
            <a:ext cx="1130400" cy="1279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23"/>
          <p:cNvSpPr/>
          <p:nvPr/>
        </p:nvSpPr>
        <p:spPr>
          <a:xfrm rot="1678800">
            <a:off x="1115640" y="4093920"/>
            <a:ext cx="1130400" cy="12794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4"/>
          <p:cNvSpPr/>
          <p:nvPr/>
        </p:nvSpPr>
        <p:spPr>
          <a:xfrm>
            <a:off x="5219640" y="2565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5"/>
          <p:cNvSpPr/>
          <p:nvPr/>
        </p:nvSpPr>
        <p:spPr>
          <a:xfrm>
            <a:off x="5076720" y="1557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6"/>
          <p:cNvSpPr/>
          <p:nvPr/>
        </p:nvSpPr>
        <p:spPr>
          <a:xfrm>
            <a:off x="2031840" y="49150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D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rc 27"/>
          <p:cNvSpPr/>
          <p:nvPr/>
        </p:nvSpPr>
        <p:spPr>
          <a:xfrm flipV="1" rot="12757800">
            <a:off x="1763640" y="4311000"/>
            <a:ext cx="503280" cy="495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8"/>
          <p:cNvSpPr/>
          <p:nvPr/>
        </p:nvSpPr>
        <p:spPr>
          <a:xfrm>
            <a:off x="1908000" y="4022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E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9"/>
          <p:cNvSpPr/>
          <p:nvPr/>
        </p:nvSpPr>
        <p:spPr>
          <a:xfrm flipV="1">
            <a:off x="900000" y="3661920"/>
            <a:ext cx="259236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0"/>
          <p:cNvSpPr/>
          <p:nvPr/>
        </p:nvSpPr>
        <p:spPr>
          <a:xfrm>
            <a:off x="3220920" y="3186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rc 31"/>
          <p:cNvSpPr/>
          <p:nvPr/>
        </p:nvSpPr>
        <p:spPr>
          <a:xfrm rot="283200">
            <a:off x="2556000" y="4743000"/>
            <a:ext cx="71280" cy="486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2"/>
          <p:cNvSpPr/>
          <p:nvPr/>
        </p:nvSpPr>
        <p:spPr>
          <a:xfrm>
            <a:off x="2556000" y="4886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rc 33"/>
          <p:cNvSpPr/>
          <p:nvPr/>
        </p:nvSpPr>
        <p:spPr>
          <a:xfrm>
            <a:off x="1692360" y="4311720"/>
            <a:ext cx="144360" cy="358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4"/>
          <p:cNvSpPr/>
          <p:nvPr/>
        </p:nvSpPr>
        <p:spPr>
          <a:xfrm>
            <a:off x="1332000" y="4238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>
            <a:off x="1787400" y="4497480"/>
            <a:ext cx="849600" cy="46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4932360" y="2997360"/>
            <a:ext cx="4211640" cy="3860640"/>
          </a:xfrm>
          <a:prstGeom prst="rect">
            <a:avLst/>
          </a:prstGeom>
          <a:solidFill>
            <a:srgbClr val="9efb6b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7"/>
          <p:cNvSpPr/>
          <p:nvPr/>
        </p:nvSpPr>
        <p:spPr>
          <a:xfrm>
            <a:off x="4932360" y="414972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(1)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作∠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MBN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＝ ∠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8"/>
          <p:cNvSpPr/>
          <p:nvPr/>
        </p:nvSpPr>
        <p:spPr>
          <a:xfrm>
            <a:off x="4968720" y="4800600"/>
            <a:ext cx="421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(2)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在射线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B M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上截取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BC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＝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在射线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B N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上截取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BA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＝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，</a:t>
            </a:r>
            <a:r>
              <a:rPr b="1" lang="zh-CN" sz="24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9"/>
          <p:cNvSpPr/>
          <p:nvPr/>
        </p:nvSpPr>
        <p:spPr>
          <a:xfrm>
            <a:off x="5003640" y="59961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(3)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连接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0"/>
          <p:cNvSpPr/>
          <p:nvPr/>
        </p:nvSpPr>
        <p:spPr>
          <a:xfrm>
            <a:off x="539640" y="5734080"/>
            <a:ext cx="39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△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ABC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为所求作的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Cloud"/>
          <p:cNvSpPr/>
          <p:nvPr/>
        </p:nvSpPr>
        <p:spPr>
          <a:xfrm>
            <a:off x="4932360" y="3068640"/>
            <a:ext cx="1547640" cy="1001880"/>
          </a:xfrm>
          <a:prstGeom prst="pi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作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2"/>
          <p:cNvGrpSpPr/>
          <p:nvPr/>
        </p:nvGrpSpPr>
        <p:grpSpPr>
          <a:xfrm>
            <a:off x="36360" y="2924280"/>
            <a:ext cx="2448000" cy="792000"/>
            <a:chOff x="36360" y="2924280"/>
            <a:chExt cx="2448000" cy="792000"/>
          </a:xfrm>
        </p:grpSpPr>
        <p:sp>
          <p:nvSpPr>
            <p:cNvPr id="334" name="Oval 43"/>
            <p:cNvSpPr/>
            <p:nvPr/>
          </p:nvSpPr>
          <p:spPr>
            <a:xfrm>
              <a:off x="36360" y="2924280"/>
              <a:ext cx="2376360" cy="792000"/>
            </a:xfrm>
            <a:prstGeom prst="ellipse">
              <a:avLst/>
            </a:prstGeom>
            <a:solidFill>
              <a:srgbClr val="9efb6b"/>
            </a:solidFill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44"/>
            <p:cNvSpPr/>
            <p:nvPr/>
          </p:nvSpPr>
          <p:spPr>
            <a:xfrm>
              <a:off x="152280" y="3068640"/>
              <a:ext cx="233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作法与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45"/>
          <p:cNvGrpSpPr/>
          <p:nvPr/>
        </p:nvGrpSpPr>
        <p:grpSpPr>
          <a:xfrm>
            <a:off x="0" y="38160"/>
            <a:ext cx="3095640" cy="2781360"/>
            <a:chOff x="0" y="38160"/>
            <a:chExt cx="3095640" cy="2781360"/>
          </a:xfrm>
        </p:grpSpPr>
        <p:sp>
          <p:nvSpPr>
            <p:cNvPr id="337" name="AutoShape 46"/>
            <p:cNvSpPr/>
            <p:nvPr/>
          </p:nvSpPr>
          <p:spPr>
            <a:xfrm>
              <a:off x="0" y="38160"/>
              <a:ext cx="3095640" cy="2781360"/>
            </a:xfrm>
            <a:prstGeom prst="pie">
              <a:avLst/>
            </a:prstGeom>
            <a:solidFill>
              <a:srgbClr val="6cfafa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WordArt 47" descr=""/>
            <p:cNvPicPr/>
            <p:nvPr/>
          </p:nvPicPr>
          <p:blipFill>
            <a:blip r:embed="rId1"/>
            <a:stretch/>
          </p:blipFill>
          <p:spPr>
            <a:xfrm>
              <a:off x="536400" y="122400"/>
              <a:ext cx="2189160" cy="127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826920" y="18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已知三角形的两角及它们的夹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求作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3"/>
          <p:cNvGrpSpPr/>
          <p:nvPr/>
        </p:nvGrpSpPr>
        <p:grpSpPr>
          <a:xfrm>
            <a:off x="-183240" y="688320"/>
            <a:ext cx="3482280" cy="3603960"/>
            <a:chOff x="-183240" y="688320"/>
            <a:chExt cx="3482280" cy="3603960"/>
          </a:xfrm>
        </p:grpSpPr>
        <p:sp>
          <p:nvSpPr>
            <p:cNvPr id="341" name="AutoShape 4"/>
            <p:cNvSpPr/>
            <p:nvPr/>
          </p:nvSpPr>
          <p:spPr>
            <a:xfrm rot="29400">
              <a:off x="-164880" y="702360"/>
              <a:ext cx="3341520" cy="3560760"/>
            </a:xfrm>
            <a:prstGeom prst="pie">
              <a:avLst/>
            </a:prstGeom>
            <a:solidFill>
              <a:srgbClr val="2abc12"/>
            </a:solidFill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WordArt 5" descr=""/>
            <p:cNvPicPr/>
            <p:nvPr/>
          </p:nvPicPr>
          <p:blipFill>
            <a:blip r:embed="rId1"/>
            <a:stretch/>
          </p:blipFill>
          <p:spPr>
            <a:xfrm rot="21599400">
              <a:off x="-182880" y="919800"/>
              <a:ext cx="3481560" cy="337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Text Box 6"/>
          <p:cNvSpPr/>
          <p:nvPr/>
        </p:nvSpPr>
        <p:spPr>
          <a:xfrm>
            <a:off x="2843280" y="104292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已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:∠α,∠β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线段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363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求作△ＡＢ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＝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α,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Ｂ＝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β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ＡＢ＝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8"/>
          <p:cNvGrpSpPr/>
          <p:nvPr/>
        </p:nvGrpSpPr>
        <p:grpSpPr>
          <a:xfrm>
            <a:off x="3492360" y="1835280"/>
            <a:ext cx="2519280" cy="1601640"/>
            <a:chOff x="3492360" y="1835280"/>
            <a:chExt cx="2519280" cy="1601640"/>
          </a:xfrm>
        </p:grpSpPr>
        <p:sp>
          <p:nvSpPr>
            <p:cNvPr id="346" name="Line 9"/>
            <p:cNvSpPr/>
            <p:nvPr/>
          </p:nvSpPr>
          <p:spPr>
            <a:xfrm>
              <a:off x="3635280" y="3348000"/>
              <a:ext cx="23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 flipV="1">
              <a:off x="3635280" y="1835280"/>
              <a:ext cx="865080" cy="151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rc 11"/>
            <p:cNvSpPr/>
            <p:nvPr/>
          </p:nvSpPr>
          <p:spPr>
            <a:xfrm>
              <a:off x="3708360" y="3203640"/>
              <a:ext cx="71280" cy="144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2"/>
            <p:cNvSpPr/>
            <p:nvPr/>
          </p:nvSpPr>
          <p:spPr>
            <a:xfrm>
              <a:off x="3492360" y="291636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3"/>
          <p:cNvGrpSpPr/>
          <p:nvPr/>
        </p:nvGrpSpPr>
        <p:grpSpPr>
          <a:xfrm>
            <a:off x="6588000" y="2771640"/>
            <a:ext cx="1944720" cy="576360"/>
            <a:chOff x="6588000" y="2771640"/>
            <a:chExt cx="1944720" cy="576360"/>
          </a:xfrm>
        </p:grpSpPr>
        <p:sp>
          <p:nvSpPr>
            <p:cNvPr id="351" name="Line 14"/>
            <p:cNvSpPr/>
            <p:nvPr/>
          </p:nvSpPr>
          <p:spPr>
            <a:xfrm>
              <a:off x="6588000" y="3348000"/>
              <a:ext cx="19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5"/>
            <p:cNvSpPr/>
            <p:nvPr/>
          </p:nvSpPr>
          <p:spPr>
            <a:xfrm flipV="1">
              <a:off x="6588000" y="3276000"/>
              <a:ext cx="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6"/>
            <p:cNvSpPr/>
            <p:nvPr/>
          </p:nvSpPr>
          <p:spPr>
            <a:xfrm flipV="1">
              <a:off x="8532720" y="320328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7019640" y="2771640"/>
              <a:ext cx="9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8"/>
          <p:cNvGrpSpPr/>
          <p:nvPr/>
        </p:nvGrpSpPr>
        <p:grpSpPr>
          <a:xfrm>
            <a:off x="539640" y="2195640"/>
            <a:ext cx="2448000" cy="1202400"/>
            <a:chOff x="539640" y="2195640"/>
            <a:chExt cx="2448000" cy="1202400"/>
          </a:xfrm>
        </p:grpSpPr>
        <p:sp>
          <p:nvSpPr>
            <p:cNvPr id="356" name="Line 19"/>
            <p:cNvSpPr/>
            <p:nvPr/>
          </p:nvSpPr>
          <p:spPr>
            <a:xfrm>
              <a:off x="539640" y="3276360"/>
              <a:ext cx="244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0"/>
            <p:cNvSpPr/>
            <p:nvPr/>
          </p:nvSpPr>
          <p:spPr>
            <a:xfrm flipV="1">
              <a:off x="539640" y="2195640"/>
              <a:ext cx="2232000" cy="10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21"/>
            <p:cNvSpPr/>
            <p:nvPr/>
          </p:nvSpPr>
          <p:spPr>
            <a:xfrm>
              <a:off x="804600" y="29383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rc 22"/>
            <p:cNvSpPr/>
            <p:nvPr/>
          </p:nvSpPr>
          <p:spPr>
            <a:xfrm>
              <a:off x="826920" y="3132000"/>
              <a:ext cx="73080" cy="144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23"/>
          <p:cNvSpPr/>
          <p:nvPr/>
        </p:nvSpPr>
        <p:spPr>
          <a:xfrm>
            <a:off x="539640" y="429264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剪下各自所作的三角形和同伴比较看是否全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1332000" y="49737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能说出全等的理由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5"/>
          <p:cNvGrpSpPr/>
          <p:nvPr/>
        </p:nvGrpSpPr>
        <p:grpSpPr>
          <a:xfrm>
            <a:off x="2629080" y="4221000"/>
            <a:ext cx="6514920" cy="1584360"/>
            <a:chOff x="2629080" y="4221000"/>
            <a:chExt cx="6514920" cy="1584360"/>
          </a:xfrm>
        </p:grpSpPr>
        <p:sp>
          <p:nvSpPr>
            <p:cNvPr id="363" name="Cloud"/>
            <p:cNvSpPr/>
            <p:nvPr/>
          </p:nvSpPr>
          <p:spPr>
            <a:xfrm>
              <a:off x="2629080" y="4221000"/>
              <a:ext cx="6514920" cy="1584360"/>
            </a:xfrm>
            <a:prstGeom prst="pie">
              <a:avLst/>
            </a:prstGeom>
            <a:solidFill>
              <a:srgbClr val="ffccff"/>
            </a:solidFill>
            <a:ln w="57240">
              <a:solidFill>
                <a:srgbClr val="99cc00"/>
              </a:solidFill>
              <a:prstDash val="dash"/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27"/>
            <p:cNvSpPr/>
            <p:nvPr/>
          </p:nvSpPr>
          <p:spPr>
            <a:xfrm>
              <a:off x="3349440" y="4514400"/>
              <a:ext cx="5398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ASA: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两角及它们的夹边对应相等的两个三角形全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28"/>
          <p:cNvSpPr/>
          <p:nvPr/>
        </p:nvSpPr>
        <p:spPr>
          <a:xfrm>
            <a:off x="34920" y="59500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知两角及一角的对边，你会作三角形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4:35:51Z</dcterms:created>
  <dc:creator/>
  <dc:description/>
  <dc:language>en-US</dc:language>
  <cp:lastModifiedBy>微软用户</cp:lastModifiedBy>
  <dcterms:modified xsi:type="dcterms:W3CDTF">2015-07-09T11:27:56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